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1F52-5ECA-4EE1-B3C7-0CF8CBC45B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82B-BE62-475F-87EC-258157159B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917C-5813-4BC2-B866-05F902EB72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31A-BB84-4E99-92F1-340055850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E87-0ABC-4663-B689-C07AC2AC65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5DEF-BC41-4EB9-8B07-E15747CB4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BB95-2746-4E8B-9783-509D4703F4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78C-3945-4E0B-BC9A-6DFBD8959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CB4F-DA1D-4514-AE53-120EF93A46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D7B9-78D3-4E4A-9B32-867DF36E67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932F-4CC2-41FD-8AB5-C60B8AB179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FD04-B56E-426F-A606-A1B9857A6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8D5-E986-4A8D-92D9-19D64FB5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652-A936-43B9-A339-3B1CB2D2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3F4-5589-4945-B931-4139E091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4DB-9D03-4752-850A-5C999F47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184-EAE4-4598-BB7E-2418C664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D0E-83D6-4DB9-9B1C-B045457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9CE-27CB-48DC-A9A0-5A4D0110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F00-EECA-44E4-893A-08D2918E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4BA-5A8A-4C79-BCAE-10E63E33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9C9-239E-4A93-AFB3-ADCB01E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D83-DB8C-44C6-AB09-6748719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A4A-2FA2-4E5B-BF25-C13C027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F18-A132-4894-A9A4-B066CA4BF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360" y="278136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деля литературы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А за ним – то народ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поёт, и орёт: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- Вот урод, так урод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то за нос, что за рот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откуда такое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УДОВИЩ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2670120" y="789120"/>
            <a:ext cx="373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олнце по небу гулял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за тучку забежало.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Глянул заинька в окно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тало заиньке…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М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0"/>
          <a:stretch/>
        </p:blipFill>
        <p:spPr>
          <a:xfrm>
            <a:off x="2627280" y="808200"/>
            <a:ext cx="3673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винки замяукали – 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яу – мяу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шечки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ХРЮКАЛИ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РЮ-Х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10"/>
          <a:stretch/>
        </p:blipFill>
        <p:spPr>
          <a:xfrm>
            <a:off x="2627280" y="941400"/>
            <a:ext cx="3816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Творческо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916360" y="2023920"/>
            <a:ext cx="3466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360" y="185688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рней Иванович Чуковск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2370240"/>
            <a:ext cx="2540160" cy="3009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597120" y="2338560"/>
            <a:ext cx="41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Родился 31 марта 1882 г. в Санкт-Петербурге. С детства увлекался поэзией, писал стихи и даже поэмы. Он любил писать сказки для дет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акие сказки Чуковского  вы знае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спомни, какими словами оканчивается строчка, и назови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еселится народ-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уха замуж идёт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За лихого, удалог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олодого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ОМАРА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0"/>
          <a:srcRect l="0" t="0" r="0" b="7503"/>
          <a:stretch/>
        </p:blipFill>
        <p:spPr>
          <a:xfrm>
            <a:off x="2708280" y="905040"/>
            <a:ext cx="3745080" cy="50306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т - нет! Соловей Не поёт для свиней Позови –ка лучше…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ОРОН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10"/>
          <a:srcRect l="0" t="0" r="0" b="6972"/>
          <a:stretch/>
        </p:blipFill>
        <p:spPr>
          <a:xfrm>
            <a:off x="2465280" y="803160"/>
            <a:ext cx="4141800" cy="52372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35:16Z</dcterms:created>
  <dc:creator>Светик</dc:creator>
  <dc:description/>
  <dc:language>en-US</dc:language>
  <cp:lastModifiedBy>Таня</cp:lastModifiedBy>
  <dcterms:modified xsi:type="dcterms:W3CDTF">2015-02-17T04:23:12Z</dcterms:modified>
  <cp:revision>74</cp:revision>
  <dc:subject/>
  <dc:title>Сказка К.Чуковского «Бармалей»</dc:title>
</cp:coreProperties>
</file>